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08F8-8E3D-4250-B5F1-DD4E9F0D63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0CB09-80FB-4631-9D21-6DA5B7EE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C422-B2B9-4136-90D9-30B35077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F897E-063D-481B-88F5-D32DAEF239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28C10-FD5E-4FF6-9D11-537E7F42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98E24-3266-4875-9D6C-C68F5CAC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7FAF1-5263-4143-B76D-1D31D33B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9634D-2023-4836-B77A-7930D937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46FD-AD4E-48C9-A95D-D5FB4820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4D4D3-EC50-4645-80BF-7C7D0096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0EC9E-1791-4824-B899-EFAC8707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115E-8912-45A2-AFD3-1A3A5641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C18E-A9D8-487C-844E-3D9F565D830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十节 心 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定义 心悸是一种对心脏搏动感到不适的自觉症状。心悸时心脏搏动可增强，心率可快、可慢，可有心律失常，也可完全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心脏搏动增强、心律失常、心脏神经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症状为患者自觉心搏或心慌。常见的伴随症状有：头晕、晕厥、呼吸困难、胸痛、交感神经功能亢进症状、恐惧。体征为体格检查部分患者可无阳性体征，部分有原发病体征，或有心率或心律的紊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心悸的临床特点、心悸的身体反应、心悸的心理反应、原因或诱发因素、诊断、治疗与护理经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心悸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心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心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alpit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一种对心脏搏动感到不适的自觉症状。心悸时心脏搏动可增强，心率可快、可慢，可有心律失常，也可完全正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的发生机制尚未明了。一般认为与心动过速、每搏心排出量大和心律失常有关，也与个体的敏感性、精神因素、注意力集中与否、心律紊乱存在的时间长短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2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搏动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律失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神经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症状和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自觉心搏或心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体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格检查部分患者可无阳性体征，部分有原发病体征，或有心率或心律的紊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临床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身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心理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原因或诱发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与心悸发作所致疲乏无力有关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焦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恐惧 与心悸发作对心脏功能的影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睡眠型态紊乱 与心悸发作所致不适有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54:53Z</dcterms:modified>
  <cp:revision>223</cp:revision>
  <dc:subject/>
  <dc:title>内科护理学</dc:title>
</cp:coreProperties>
</file>